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851-2D43-4CBF-B39D-B8315A84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AC9-B8E3-49D1-A8AF-0CA58F1C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18D-1085-4513-9CF0-6482BEE9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26B-28AA-4CC1-B7D2-DCBF9D23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1A0C-54EF-4FDF-B23A-7EDBE744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BBAF-6A78-4C93-B31A-2BBF6765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497C-CFD6-4BC9-A773-FC53F4C7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780F-AC99-44C6-92B3-870A40C9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390C-039D-4654-84B0-1556F3CA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CEBB-CE68-4955-B3F9-ECBC689C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BDEC-59C1-4B86-931F-36C5D339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8B4-559D-4050-88D1-88BE6B9B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3B42-C439-4597-9D3A-18497CEC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992B-CBFE-4298-80D5-2C5BF178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8CCE-8D4D-4703-B11E-65FBC599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2B8B-9CA6-4737-B934-EDDDEC88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7F6E-C57D-4A26-BAF1-67A13F9D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E61-A58A-48FF-B22D-70FA5264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690-F7DE-46BA-BE1D-4749D077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0C5-6C10-4548-8DB3-18A68DF9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3F4-EFF3-4664-808F-4527ABE0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452-CDD1-4AAF-B236-C85C0829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97D-1A76-4585-98C8-903CA74A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E9B-6B6D-4872-9A0C-F309F2EF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328C-0089-4D13-A4D7-D6D136527DD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8CCF-0704-486D-8300-EBB141D4F0D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!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40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5E WERE LEARNING ABOU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BY MU-AATH!!!!!!!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3672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CLOTHING!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use a jacket called a S.R.B.A to protect them from gun shot or a knife hi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also use a pepper spray on their special bel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also keep handcuffs on their belt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859280" y="506736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EAPONS!!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keep a special thing called a taser to stop criminals from being viol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carry a strong gun in their car which is locked awa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4886280"/>
            <a:ext cx="37083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ROLES OF POLICE!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raffic offic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Dispatc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Dog handl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re’s a S.W.A.T tea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Crime scen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067280" y="4221000"/>
            <a:ext cx="3492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ANK YOU BY MU-AATH 5E!!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2:12:05Z</dcterms:created>
  <dc:creator>5e08</dc:creator>
  <dc:description/>
  <dc:language>en-US</dc:language>
  <cp:lastModifiedBy>5e08</cp:lastModifiedBy>
  <dcterms:modified xsi:type="dcterms:W3CDTF">2011-09-12T01:50:16Z</dcterms:modified>
  <cp:revision>6</cp:revision>
  <dc:subject/>
  <dc:title>POLICE!!!!!!!</dc:title>
</cp:coreProperties>
</file>